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7A2-F226-462F-9FF7-214B58CB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30B-884C-42C2-88FE-DB6E8E0F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F0D-BFB0-4AD1-B58A-60D2C3DA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4D7C-7C3A-4060-9D07-8497AE5F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C4E7-52E5-43FB-A823-8002724E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855-6265-446F-8C4C-8BB81F2E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C3CD-D24A-4420-9D0B-7A49D95F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99AE-1A8C-4965-AE22-38987002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7DC2-2A06-46A1-BA34-1520074E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D99F-A72D-4155-8CCE-8104DDA3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164-BFB6-4A8B-89AA-9B12ADA3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67C1-1A82-4989-9395-2608AAE5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053D-B02A-4B79-A0C8-229FEE5471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Михаил Юрьевич Лермонтов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814-18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C:\Documents and Settings\Райдама\Рабочий стол\Lermontov.jpg"/>
          <p:cNvPicPr/>
          <p:nvPr/>
        </p:nvPicPr>
        <p:blipFill>
          <a:blip r:embed="rId1"/>
          <a:stretch/>
        </p:blipFill>
        <p:spPr>
          <a:xfrm>
            <a:off x="5083200" y="1981080"/>
            <a:ext cx="294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Композиция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спозиция – вступительная часть произведения, в котором нет развития основного 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язка – начало 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пизоды (развитие действ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льминация – самый волнующий момент произ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язка-конец дейст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пилог – заключительная часть произведения, знакомящая с дальнейшей судьбой герое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Самостоятельная работа учащихс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Подведение итогов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(карта успеха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0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71388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машнее  задани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ечитаем балладу в соответствии с новым ее  понимание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рисовать рисунки к балладе М. Ю. Лермонтова «Три пальмы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5285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Mistral"/>
                <a:ea typeface="Gautami"/>
              </a:rPr>
              <a:t>Михаил Юрьевич Лермонтов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5" name="Picture 8" descr="C:\Documents and Settings\Райдама\Рабочий стол\Lermontov.jpg"/>
          <p:cNvPicPr/>
          <p:nvPr/>
        </p:nvPicPr>
        <p:blipFill>
          <a:blip r:embed="rId1"/>
          <a:stretch/>
        </p:blipFill>
        <p:spPr>
          <a:xfrm>
            <a:off x="3000240" y="1000080"/>
            <a:ext cx="294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37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700"/>
                            </p:stCondLst>
                            <p:childTnLst>
                              <p:par>
                                <p:cTn id="229" nodeType="afterEffect" fill="hold" presetClass="exit" presetID="3" presetSubtype="10">
                                  <p:stCondLst>
                                    <p:cond delay="3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0" dur="14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400"/>
                            </p:stCondLst>
                            <p:childTnLst>
                              <p:par>
                                <p:cTn id="233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Спасибо за урок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524440" y="2143080"/>
            <a:ext cx="47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«Три пальмы»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точное сказание – это рассказ исторического и легендарного характера на Восто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Баллада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южетное стихотворение на легендарную или сказочную те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Аравийская пустыня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357120" y="200016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АРАБЫ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рис – по-арабски: всад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КАРАВАН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раван –группа вьючных животных (верблюдов, ослов, редко лошадей), перевозящих грузы и людей (главным образом в пустынных района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ОАЗИС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азис – расположенный около естественного водоёма островок расти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Баллада М.Ю.Лермонтова «Три пальмы»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2643120" y="207180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Баллада – сюжетное стихотворение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южет-развитие действия,ход событий в произведе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язка, кульминация, развяз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7:25:27Z</dcterms:created>
  <dc:creator>raidama_company</dc:creator>
  <dc:description/>
  <dc:language>en-US</dc:language>
  <cp:lastModifiedBy>Эксперт</cp:lastModifiedBy>
  <dcterms:modified xsi:type="dcterms:W3CDTF">2013-01-27T17:13:15Z</dcterms:modified>
  <cp:revision>15</cp:revision>
  <dc:subject/>
  <dc:title>Михаил Юрьевич Лермонтов</dc:title>
</cp:coreProperties>
</file>